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976-71B5-40BA-BB1D-67033E67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DFD-1F4E-4751-BFC6-ABD9261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669-CC71-405A-8364-404FFD6E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DFF4-8764-4989-AF12-EC2130E1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8A75-7226-45EF-830D-16A9FDE7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A56D-B76B-4743-BCB1-496B69DD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F7A-7907-4B7D-A87E-E6F40CC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8732-633F-429B-BDB1-ED3A908B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C389-38CD-4EF5-9FFE-A789B553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AF2F-D517-4152-BC12-0A5062DA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4715-3D7B-42ED-AACE-F921424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368-DB76-4B63-BDC0-8CC4C0A1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89EB-A23E-475A-8659-4839C5D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C149-1492-457C-A254-E463FDC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C096-8E3E-4B24-88AF-716C6A06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DEB2-6F91-4580-9D86-9C59599E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26C8-E9C4-46A0-A7CF-42B34817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890E-E4E9-4FAE-AE13-303DEBD5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69D9-AEA7-44E6-B6CE-AA2F455E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7B681-7D56-48B9-ACB7-0C98D0E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7F573-7332-44EC-A6CC-6CECC88E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4903-834B-49B2-8923-31F5FB78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ACD-5C7B-44DD-91C2-DCE24EEB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BC04-BB06-4015-A8E5-0546B173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F95B4-65B8-4B9C-BDB1-16F3E5E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863F-0A96-4246-A9F2-853C4C9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4E86-A648-440E-B73F-86688F2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7A2CD-9774-49C3-B86A-A65FEB5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3F35-7F63-4B89-8174-D3D9F2FE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8EEE-B83F-429E-8F53-599F722B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B34D-A378-425F-9968-D5C6206D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3EFD-62F5-4096-AC76-A41C0F92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DFEF-CBEB-487C-A32F-C1A0A875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5CB-A645-45FE-BBFD-B649C456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C886-9826-4E22-8B20-50DAF532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63741-E226-439F-8E9D-D37B876C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CF139-9DAE-4021-80C1-A3B37CBD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E09C7-E1C8-4634-8610-AB9AE78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2862-44D5-4392-B099-65EFA86D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087C6-85DE-41BC-B63B-C55C498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13A2-A6F6-473A-BE41-A5C16792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0DA6-ADA0-40C3-AEDB-9D51826A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6F3E-B4F5-4194-A885-2C4E7216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7573D-AF8A-4552-8F92-E44832D4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076-8AFF-404D-8899-CDBBF511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74BCC-690D-4D6A-AD6A-3E8B954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92B46-B11F-45E7-BFFD-D7503DC8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E3483-6EE5-4F2C-951E-0359EF98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374ED-ACB7-477B-8B98-71214031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3E39-DA19-4B00-8E9F-8BA459BE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02B2C-7BDC-4FCB-BA36-51B6303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65E4-0D48-4A8B-8E3F-1316783C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D6717-DCEF-4622-A528-4D898198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5F750-995E-493C-85DB-278D0B78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375BD-86CA-4366-AC31-7F8F6069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8A2-A17A-4693-B265-785AE59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A3BC-7CCF-4E8C-970C-D387C5BC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67D-23A0-406A-9CA9-DC3C78B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30F-F525-4E21-8621-E1849DE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279-EFA9-426E-AD0D-9560C337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E5FD-C3A0-4BCB-9900-A560338BEAB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536B-702B-4C6D-AF14-D6DB97ECD42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A7DA-92E0-4FFB-A712-58375FC79C7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F43-20E8-4147-91E7-24F4EFEAC07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C3F-AFD6-4A23-9A3D-DEA68ECB6F2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16320" y="530280"/>
            <a:ext cx="56196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1760760" cy="1524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25320" y="2111400"/>
            <a:ext cx="1271880" cy="212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4"/>
          <a:stretch/>
        </p:blipFill>
        <p:spPr>
          <a:xfrm>
            <a:off x="0" y="4680000"/>
            <a:ext cx="2676600" cy="2003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5"/>
          <a:stretch/>
        </p:blipFill>
        <p:spPr>
          <a:xfrm>
            <a:off x="4572000" y="3581280"/>
            <a:ext cx="2371680" cy="254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A fad diet is a weight loss program or aid that promises dramatic results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바탕"/>
                <a:ea typeface="바탕"/>
              </a:rPr>
              <a:t>They typically do not focus on long term weight los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바탕"/>
                <a:ea typeface="바탕"/>
              </a:rPr>
              <a:t>They are usually not very health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2370240" y="4343400"/>
            <a:ext cx="31240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1. The diet is based on drastically reducing calories/promises losing weight fast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2. The diet is based on taking Drops, Pills, Powders or Her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3. The diet tells you, you can only eat specific foods or foods in certain combin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4. The diet makes you completely cut out fat, sugars or carbohydrat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바탕"/>
                <a:ea typeface="바탕"/>
              </a:rPr>
              <a:t>5. The diet has you skipping meals, or replaces meals with special drinks or food ba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152424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6. Shows before and after pict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7. Has testimonials for product from “health experts” or cli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8. Usually costs a lot of mone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9. Promises you can lose weight without giving up fatty foods or without exercis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0. Sounds too good to be tru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Controlled if any carbohydrates: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   </a:t>
            </a:r>
            <a:r>
              <a:rPr b="1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 </a:t>
            </a:r>
            <a:r>
              <a:rPr b="1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- </a:t>
            </a: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Dr. Atkin’s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High Carbohydrate's/Low f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Dr Dean Ornish: Eat More Weigh Less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Controlled Portion Siz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Dr. Shapiro’s Picture Perfect Weight Loss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Liquid Die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Slim Fast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Diet Pills or Herbal Supplements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Hydroxycut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바탕"/>
                <a:ea typeface="바탕"/>
              </a:rPr>
              <a:t>Food Combinin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c6c6c"/>
                </a:solidFill>
                <a:latin typeface="바탕"/>
                <a:ea typeface="바탕"/>
              </a:rPr>
              <a:t>Suzanne Somers’: Somersizing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lv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c6c6c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3721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ake a look at your handout that describes different diets, circle the numbers of the ones you believe are fad diet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895480" y="3886200"/>
            <a:ext cx="2495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03:16:03Z</dcterms:created>
  <dc:creator>Dell</dc:creator>
  <dc:description/>
  <dc:language>en-US</dc:language>
  <cp:lastModifiedBy>Eliss Herman</cp:lastModifiedBy>
  <dcterms:modified xsi:type="dcterms:W3CDTF">2014-04-08T23:24:52Z</dcterms:modified>
  <cp:revision>10</cp:revision>
  <dc:subject/>
  <dc:title>Fad Diets</dc:title>
</cp:coreProperties>
</file>